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2B8C-7C49-4224-BEFA-D78B6B3C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9EB9-DE1F-4BA1-9A61-EB7F5FFF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76791-98C3-44F3-BF14-625F3F4B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C8AB6-12D2-4513-9484-EEC2691BA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8C59-0171-42D3-B141-E7CFC436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8FAA-03FD-4508-869C-521FA91C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50F-000A-4835-954F-AEB94FDB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8131-E21B-417E-961A-18870CA8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3056-F489-4AB2-A196-44741B9D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D0A6-1657-4D85-BE77-26710B85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E61D-2130-495D-8E90-2CF9F85D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D883-C76C-448B-81FE-53498B16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5956-29B9-4E04-B314-19EF11F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37D5-2BC0-4B53-B311-8B419AD6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623B-72AA-496D-B484-B6138173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D4DB-43AD-4708-A8E6-CE945DCE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19D3-EA2A-462A-A603-E56ECECD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FF38-2C8B-4072-9CB0-9C94A9DD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C9E0-5C98-4223-B438-9E342008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836C-2712-4D33-9F3B-5F30BDAB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722C7-68D1-49E6-9364-65D12C7F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F6EC-E3FC-476C-8CBC-D5669A4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710C-086D-4A09-B00E-6C78E2BA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55A2D-EBB5-43C0-A467-B260D427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C840-5D3E-47FC-851E-11375C29A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10F5-4A72-4B4F-BE0D-03FC902C8B5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600" spc="-1" strike="noStrike">
                <a:solidFill>
                  <a:srgbClr val="ffffff"/>
                </a:solidFill>
                <a:latin typeface="Tempus Sans ITC"/>
              </a:rPr>
              <a:t>Interviews non directives &amp; </a:t>
            </a:r>
            <a:br>
              <a:rPr sz="4600"/>
            </a:br>
            <a:r>
              <a:rPr b="1" lang="fr-BE" sz="4600" spc="-1" strike="noStrike">
                <a:solidFill>
                  <a:srgbClr val="ffffff"/>
                </a:solidFill>
                <a:latin typeface="Tempus Sans ITC"/>
              </a:rPr>
              <a:t>Récits de vi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400" spc="-1" strike="noStrike">
                <a:solidFill>
                  <a:srgbClr val="000000"/>
                </a:solidFill>
                <a:latin typeface="Arial"/>
              </a:rPr>
              <a:t>Chapitre IV. Collecte de donné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Objectif : expliciter les infos pertinentes (lectures success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Méthode herméneutique (Verstehen, Weber) – analyse compréhensive (Imagination et rigue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Technique la + simple : l’analyse thématique. Rechercher les indices (pointes d’iceberg) et ty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Importance d’une approche comp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Comparaison très tôt dans la démarche de terrain (second récit voir le prem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Mettre à jour les traits communs à plusieurs récits de vie </a:t>
            </a:r>
            <a:r>
              <a:rPr b="0" lang="fr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typ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Exemple : Migration féminine vers Paris dans les années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Du récit au phénomène social. Représentativ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Approche déductive. Construction d’un concept et nomin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Mise en forme et réd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Publication intégrale : inu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Publication partielle : éviter de transformer les indices en preu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Humilité : c’est le sujet qui permet de faire avancer votre hypothèse pas votre hypothèse qui est confirmée par les dires du suj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Si le passage à citer est trop long, résumer sans trah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Palatino Linotype"/>
              </a:rPr>
              <a:t>Faut-il ou a-t-on le droit de réécrire les extraits que l’on inclura dans le text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Tentation d’arranger le texte : le changement de forme ne peut pas changer le s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Deux opérations : la coupure (…) ou le déplacement de phrase : // //. Sans changer le sens (vérifi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Le respect des matériaux prime sur l’aspect esthét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Interviews non dir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Utilisées pour le recueil d’informations qui dépendent de la subjectivité des acteurs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s’abstenir de toute intervention directive et n’intervenir que pour permettre un surcroît d’information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Techniques d’appels à l’expression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Palatino Linotype"/>
              </a:rPr>
              <a:t>silence attentif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Palatino Linotype"/>
              </a:rPr>
              <a:t>encouragement sans phras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Palatino Linotype"/>
              </a:rPr>
              <a:t>paralangage de compréhension (attitudes, mimiques, ton et regards doivent être convergents en ce qui concerne leur signification de centration sur l’autre et de compréhension de ce qu’il dit ; elles concrétisent l’empathi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Palatino Linotype"/>
              </a:rPr>
              <a:t>Les refor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Palatino Linotype"/>
              </a:rPr>
              <a:t>Reformulation ref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Palatino Linotype"/>
              </a:rPr>
              <a:t>Reformulation synthè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Palatino Linotype"/>
              </a:rPr>
              <a:t>Reformulation par inversion des rapports figures-fond (on cherche à faire prendre conscience. Nécessite une décentration par rapport au contenu immédi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Palatino Linotype"/>
              </a:rPr>
              <a:t>Reformulation-cla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écits de v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Pas une (auto)biographie, une œuvre littéraire mais un travail scientifique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Recueillir par entretien des informations auprès d’informateurs choisis en fonction d’objectifs de l’enquête </a:t>
            </a:r>
            <a:r>
              <a:rPr b="0" lang="fr-FR" sz="3200" spc="-1" strike="noStrike">
                <a:solidFill>
                  <a:srgbClr val="000000"/>
                </a:solidFill>
                <a:latin typeface="Palatino Linotype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Historique : Le Play, Thomas &amp; Znanieck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a démarche glob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Le récit de vie n’est pas le simple recueil de souven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C’est une interview non ou peu directive où l’on cherche à mettre l’interlocuteur en confian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… </a:t>
            </a: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mais en cherchant (gentiment) à le recentrer sur certains thèmes de la recher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Nécessité d’établir un guide d’entret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’entreti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Schéma du récit narratif : inciter l’interlocuteur à se livrer + recentrer le discours sur les thèmes que vous vouliez ab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Le guide d’entretien doit être évolutif en situation et au fil des récits de v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’entret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Attitude géné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Lancer le récit de 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Accompagner l’entret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Palatino Linotype"/>
              </a:rPr>
              <a:t>Savoir s’adapter, gérer l’inatten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a re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Pas indispensable mais…nécessaire (analyse approfondi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Conserver les mots et les into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Conseils : retranscrivez les 3 ou 4 premiers récits de v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En triple interligne on retranscrit la ban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Ecoutes successives </a:t>
            </a:r>
            <a:r>
              <a:rPr b="0" lang="fr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 reconstituer le texte au plus prè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Lisibilité / respect des matériaux / esthétis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Ne jamais mêler ses commentaires à la retranscription. Tout ajout au récit est en note de bas d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3 ordres de ré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Historico-empi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Psychique ou séman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Réalité discursive du ré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Récits de vie : souvenir, mémorisation et mise en persp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Jusqu’où se fier à l’interlocuteur? Souvent : soit méfiance totale soit candeur to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Mais, l’hypothèse la + plausib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les faits et leur succession ont été bien mémorisés mais pas relatés de façon linéai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Palatino Linotype"/>
              </a:rPr>
              <a:t>Retrouver la structure diachronique du réc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Structure diachro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Structure diachronique et relations cau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Récits croisés pour reconstituer la structure diachro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Backgrounds construction (Fritz Schüt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Chronologie et diachro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Prendre conscience de l’impact phéno historique et changements socia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Palatino Linotype"/>
              </a:rPr>
              <a:t>Zones bla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7:27:36Z</dcterms:created>
  <dc:creator>Pirotte Gauthier</dc:creator>
  <dc:description/>
  <dc:language>en-US</dc:language>
  <cp:lastModifiedBy>Pirotte Gauthier</cp:lastModifiedBy>
  <dcterms:modified xsi:type="dcterms:W3CDTF">2007-03-08T14:28:08Z</dcterms:modified>
  <cp:revision>5</cp:revision>
  <dc:subject/>
  <dc:title>Interviews non directives et Récits de vie</dc:title>
</cp:coreProperties>
</file>